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ct" ContentType="image/x-pict"/>
  <Override PartName="/ppt/media/image3.png" ContentType="image/png"/>
  <Override PartName="/ppt/media/image4.jpeg" ContentType="image/jpeg"/>
  <Override PartName="/ppt/media/image5.gif" ContentType="image/gif"/>
  <Override PartName="/ppt/media/image6.gif" ContentType="image/gif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D7D0B-802C-4668-8123-64AE827CD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4218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E57AD-B882-481B-B2CE-9D391CC43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1AAA1-4EE7-4B1D-98B0-C89BCA91D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62E9C-B7A7-444A-BC66-FE37E104E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B58CA-78DA-4ECC-B343-9641846BB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D4108-5FFC-4285-8250-A4AB33A3B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5B084-99EB-4D13-AE5F-39736B4C1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37BE7-C0A9-4BDE-9C57-92E398229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7A156-D52F-4F3E-A7AE-52903B614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71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175E9-58B0-4582-8A45-03B95C518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D0D9E-0435-4953-971E-7B7532499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CEAFF-AFE0-4998-B648-A3F560926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848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882A1-402A-4C1B-9DEA-6C432F32C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73405-2627-4591-967A-746B0149F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5800" y="44218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B492F-0B39-4533-872B-2B9BEA851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848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8CE20-48F5-42D9-ACA3-FBA7AADA4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380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4144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580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380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4144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F9EB5-F66D-49EC-BC13-B626D765F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68486-E8B8-4DC0-9B3B-0268CD111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005BA-E23D-4DF1-97A8-A1F10662D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27400-DF1B-4F69-8321-876C99C00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371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00016-3ACF-459F-86E9-8AB3BACD3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30311-ECF8-4212-9EB4-94D08A49B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C10E1-51D5-4F98-9692-17318AEDC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AB195-98EC-4364-B777-BCBD52AD4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735480" indent="-282960"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2" marL="1131480" indent="-226080">
              <a:buClr>
                <a:srgbClr val="66cc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3" marL="1584000" indent="-226080">
              <a:buClr>
                <a:srgbClr val="80ff00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4" marL="2036520" indent="-226080">
              <a:buClr>
                <a:srgbClr val="ffcc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5" marL="2036520" indent="-226080">
              <a:buClr>
                <a:srgbClr val="ffff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6" marL="2036520" indent="-226080">
              <a:buClr>
                <a:srgbClr val="ffff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7720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19206-650F-48E8-9A92-6795872C0152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7720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0A26B-FE0E-4423-B041-C13EE02F0035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ct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gif"/><Relationship Id="rId3" Type="http://schemas.openxmlformats.org/officeDocument/2006/relationships/image" Target="../media/image6.gif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Welcome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647960" y="2590920"/>
            <a:ext cx="380988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Jared’s  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Fourth Grade Spring Conference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March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19, 20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6172200" y="1143000"/>
            <a:ext cx="2654280" cy="20131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685440" y="2590920"/>
            <a:ext cx="3809880" cy="35049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289512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Thank you for coming!</a:t>
            </a:r>
            <a:br>
              <a:rPr sz="4000"/>
            </a:b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Any questions??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593640" y="533520"/>
            <a:ext cx="1451160" cy="51814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7010280" y="533520"/>
            <a:ext cx="1676520" cy="167616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4"/>
          <a:stretch/>
        </p:blipFill>
        <p:spPr>
          <a:xfrm>
            <a:off x="6858000" y="2971800"/>
            <a:ext cx="569880" cy="17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5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294920"/>
            <a:ext cx="84582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Fourth Grade in Review:  Reading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2209680"/>
            <a:ext cx="80010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ading skills I have worked on: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Proper Grammar 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pelling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Reading fluently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My favorite books I’ve read in class: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The Day My Butt Went  Psycho 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The Landry News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Zombie Butts From Uranu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Fourth Grade in Review: Math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219320" y="2437920"/>
            <a:ext cx="7162560" cy="3505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Math skills that I have worked on: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Are knowing multiplicatio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facts higher than 12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Long division 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My favorite activity to do in math: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Math Olympiad 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Big projects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4920" y="1371240"/>
            <a:ext cx="86104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Fourth Grade in Review: 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Science and Social Studies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2819520"/>
            <a:ext cx="7391520" cy="4038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cience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Making  and building circuits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Going to U L  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Making  terrariums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ocial Studie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U.S maps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outheast Region  maps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3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4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5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6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9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0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1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2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5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6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7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8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1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2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3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4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9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0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1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2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5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6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7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8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1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2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3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4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4920" y="1371240"/>
            <a:ext cx="86104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Fourth Grade in Review:  Writing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066680" y="2514600"/>
            <a:ext cx="7391520" cy="4038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Creative writing  on lap tops 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Journal topics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Writing perfect grammar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Story starters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Comic strips writing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8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8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8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8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8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8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8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8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8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8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8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8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8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8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8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8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800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8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8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8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560" y="1066320"/>
            <a:ext cx="88390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My favorite experiences: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685440" y="2362320"/>
            <a:ext cx="3809880" cy="35049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648320" y="2057040"/>
            <a:ext cx="4495680" cy="3505320"/>
          </a:xfrm>
          <a:prstGeom prst="rect">
            <a:avLst/>
          </a:prstGeom>
          <a:noFill/>
          <a:ln w="0">
            <a:noFill/>
          </a:ln>
          <a:effectLst>
            <a:outerShdw dist="38251" dir="3297828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Field  trip to U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Figuring out the answers for the quiz boards   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Making terrariums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6" name=""/>
          <p:cNvSpPr/>
          <p:nvPr/>
        </p:nvSpPr>
        <p:spPr>
          <a:xfrm>
            <a:off x="5029200" y="2057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952880" y="1981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221600" y="1924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5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5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15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5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50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50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4920" y="1371240"/>
            <a:ext cx="86104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Things I’m good at: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66680" y="2514600"/>
            <a:ext cx="7391520" cy="4038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pelling 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ading books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yping stories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Math  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1" name=""/>
          <p:cNvSpPr/>
          <p:nvPr/>
        </p:nvSpPr>
        <p:spPr>
          <a:xfrm>
            <a:off x="1219320" y="2362320"/>
            <a:ext cx="716256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5181480" y="2286000"/>
            <a:ext cx="26100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1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6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6" dur="5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27" dur="1" fill="hold"/>
                                  <p:tgtEl>
                                    <p:spTgt spid="9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1294920"/>
            <a:ext cx="86104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Things I need to work on: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4" name=""/>
          <p:cNvSpPr/>
          <p:nvPr/>
        </p:nvSpPr>
        <p:spPr>
          <a:xfrm>
            <a:off x="1143000" y="2362320"/>
            <a:ext cx="7391520" cy="4038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Grammar check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Hand writing in cursiv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ading slower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558800" y="2309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4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4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137124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My Goals for the next three months: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66680" y="2514600"/>
            <a:ext cx="7391520" cy="4038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I will listen to the teacher better by not talking in class.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I will make my cursive better by writing more work in cursive.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I will read slower by reading one word at a time.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6T17:13:09Z</dcterms:created>
  <dc:creator>NSSD112</dc:creator>
  <dc:description/>
  <dc:language>en-US</dc:language>
  <cp:lastModifiedBy>nssd112</cp:lastModifiedBy>
  <dcterms:modified xsi:type="dcterms:W3CDTF">2009-06-04T15:32:59Z</dcterms:modified>
  <cp:revision>29</cp:revision>
  <dc:subject/>
  <dc:title>Welcome Mom and Dad!</dc:title>
</cp:coreProperties>
</file>